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17234"/>
        <c:axId val="30075814"/>
      </c:barChart>
      <c:catAx>
        <c:axId val="53617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5814"/>
        <c:crosses val="autoZero"/>
        <c:auto val="1"/>
        <c:lblAlgn val="ctr"/>
        <c:lblOffset val="100"/>
        <c:noMultiLvlLbl val="0"/>
      </c:catAx>
      <c:valAx>
        <c:axId val="30075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7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E74-7A48-4C34-9645-43C2D19C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069-656E-4771-A2D5-C93BE547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24D-51C2-44BC-A5FE-C857F46E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0BA-5983-49D3-B0DC-9C80D43B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31C-DADA-419B-8062-EC5036F3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7D3-D631-4F7F-82A9-E4DA173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FAF-2187-43A2-9FF9-65DB82A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24B-CAB5-44AA-9C63-DAA5F94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4A9-ABAF-407B-A392-C5DB602C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6D0-EC1D-48A9-A7D0-D9A68624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535-42C0-48C1-8D39-E6B77F7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A83-6346-44AF-A6DD-A0AE1B9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8B60-7D9C-4EEE-9F65-2E18DC6EC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