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62355"/>
        <c:axId val="2325066"/>
      </c:barChart>
      <c:catAx>
        <c:axId val="35362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066"/>
        <c:crosses val="autoZero"/>
        <c:auto val="1"/>
        <c:lblAlgn val="ctr"/>
        <c:lblOffset val="100"/>
        <c:noMultiLvlLbl val="0"/>
      </c:catAx>
      <c:valAx>
        <c:axId val="2325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2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752-3E1C-4989-A480-9448E7D0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5D3-5B44-4F69-B6C6-62551DC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6A5-D828-4CA8-8810-9C0F53CF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87D-7F76-4046-AA48-A6473971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CA7-BDE3-453C-9E08-CECA013C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8A7-3601-41DD-AED8-FF17924C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BD4-0B5A-4EE0-BDE7-493D0C5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A6E-94CC-4C47-B7F1-E9E02CCB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1DE-EED9-4586-9C0B-35C5717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6B1-E881-4A78-8B13-95CF1C5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D01-B54F-4777-828A-070DBE3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F15-4043-4A35-BD25-4137B12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989B3-E779-4A16-A12C-1FA7537F5D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