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31027"/>
        <c:axId val="63181323"/>
      </c:barChart>
      <c:catAx>
        <c:axId val="81431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81323"/>
        <c:crosses val="autoZero"/>
        <c:auto val="1"/>
        <c:lblAlgn val="ctr"/>
        <c:lblOffset val="100"/>
        <c:noMultiLvlLbl val="0"/>
      </c:catAx>
      <c:valAx>
        <c:axId val="63181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31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D63-46E7-4B98-AE1D-73D0BAC2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874-8501-4CB3-8A5F-7D11F177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5EF-A3A2-447F-BD05-A660E5EC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3BD-E2AA-47DB-BB2B-39AA64C5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0FE-D15D-4C01-8E28-21740E20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372-B72A-428E-A696-8BD6688D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823-3718-4838-8132-A4231389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5D4-F639-409E-B23F-361E8648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2F0-0908-49AB-81E3-27FFC3D1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A44-A374-4329-A9A2-7E8E21E5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DBA-A188-4B1E-9D13-9E11F2D1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5E4-E5F2-4E79-98CE-4259BF6F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79031-9D03-4BD2-835D-EBC7D883DE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