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66092"/>
        <c:axId val="80843238"/>
      </c:barChart>
      <c:catAx>
        <c:axId val="83166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43238"/>
        <c:crosses val="autoZero"/>
        <c:auto val="1"/>
        <c:lblAlgn val="ctr"/>
        <c:lblOffset val="100"/>
        <c:noMultiLvlLbl val="0"/>
      </c:catAx>
      <c:valAx>
        <c:axId val="80843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66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187-019E-4E22-A506-E5852AE0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C56-84FD-4BF3-B574-D6B491E0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D40F-6729-4B0A-A49A-92AF887C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F91-E432-45DC-9BA5-59C1EFC2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8B4-8942-4AE7-A647-96081DC1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273-EA47-452A-8C17-6F1909DB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D19-4D77-4D99-9B19-3671BF44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A2C-0A88-45C3-BE19-8AE7CE84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2F3C-D6B2-4EC8-A68D-5C2EDF3C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A48-BB02-4FC8-9DE9-CAA0CF6B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716F-C3D4-4A50-BC3A-D2559E39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B18-2493-4B49-A9DA-5BAEDA49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A2878-A487-48F0-9035-038E45528E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