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63609"/>
        <c:axId val="2395237"/>
      </c:barChart>
      <c:catAx>
        <c:axId val="69963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237"/>
        <c:crosses val="autoZero"/>
        <c:auto val="1"/>
        <c:lblAlgn val="ctr"/>
        <c:lblOffset val="100"/>
        <c:noMultiLvlLbl val="0"/>
      </c:catAx>
      <c:valAx>
        <c:axId val="2395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63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6B3-416F-4B55-ACD2-CCDCD4CD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E40-131D-40B4-88E9-8F01E23A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8EB-0BA8-4245-9A9E-BB1F0F47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619-6BB2-4711-96CC-2E772C6C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6C0-F43E-47B3-81EF-932A4504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765-3D49-49F2-AF78-7CA2E4D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088-B522-4CB0-9FE8-10A50AC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527-2E7E-4374-9CD8-2B7A4548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200-D15E-4161-BA8F-2F7FBE5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962-EC88-4998-8A85-C0A507B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B19-7EE8-48DA-87F3-BA0284A2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FE0-DF11-42E3-9B6E-72FADBA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69102-F13D-4D56-A219-F7F7EF888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