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06205"/>
        <c:axId val="64247101"/>
      </c:barChart>
      <c:catAx>
        <c:axId val="56906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7101"/>
        <c:crosses val="autoZero"/>
        <c:auto val="1"/>
        <c:lblAlgn val="ctr"/>
        <c:lblOffset val="100"/>
        <c:noMultiLvlLbl val="0"/>
      </c:catAx>
      <c:valAx>
        <c:axId val="64247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06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0CC-BD5B-4270-A051-280BD84C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497-0F42-42B6-B2F2-43664E09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8C1-65C4-44A9-B915-D41C4E8D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FB4-4699-4032-8E90-9A31C5E0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527-D87A-41C9-8CA0-4164E7C6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B45-5F2D-4FB9-B5FB-CA5530FB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1E6-2431-467F-81EC-38218FE6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6CA-BAEB-4744-8036-C63B0B3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BFF-0D9C-473B-B6CD-35F8E5B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9B5-701F-4D94-AF6B-297F917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97B7-AC00-45E9-B61D-692669FE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6E0-779F-48B3-A2D9-829FE2E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88D11-57A3-43A5-AA44-3589EE1F3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