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72013"/>
        <c:axId val="55823265"/>
      </c:barChart>
      <c:catAx>
        <c:axId val="11072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23265"/>
        <c:crosses val="autoZero"/>
        <c:auto val="1"/>
        <c:lblAlgn val="ctr"/>
        <c:lblOffset val="100"/>
        <c:noMultiLvlLbl val="0"/>
      </c:catAx>
      <c:valAx>
        <c:axId val="55823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72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121-4365-41DC-93A7-EC879197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306-8537-4AA4-9F2D-16633F75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FE7-8610-42B1-911F-FFDB6F1A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EF9-08DE-4BCE-818D-C32C7EDE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784-328D-48FC-B50C-72C76EB5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B9F-D820-443D-A3C0-DD17954E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1E6-FF53-4B3A-87E3-C9D16F0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70E-2999-46F0-975D-22640738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A9D-4FE3-494E-A792-24A98304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ED4-2F20-4870-910F-C88DCDC7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9C0-A7CC-4272-9D70-CF3686D4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500-89D8-46CF-AFDA-F61177A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D1C93-7BBF-4155-BE71-680127B3F2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