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01199"/>
        <c:axId val="10742839"/>
      </c:barChart>
      <c:catAx>
        <c:axId val="11001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42839"/>
        <c:crosses val="autoZero"/>
        <c:auto val="1"/>
        <c:lblAlgn val="ctr"/>
        <c:lblOffset val="100"/>
        <c:noMultiLvlLbl val="0"/>
      </c:catAx>
      <c:valAx>
        <c:axId val="107428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01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B92-638C-4334-A2A4-03328DAC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CB5-9F2F-4607-AC2B-548522CA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5D9-33E1-465E-A211-22EBA7E3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41D-01C7-4415-B54D-1F275949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25B-B1DC-4A81-85F2-12B445AA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35D4-CF54-4812-B6F3-78FBF093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184-E468-4760-B6FF-BF144233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9F8-9C61-4E5E-AE1F-4469E900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060-F1CA-4027-8A06-F9108F8B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EC1-F301-4295-83E4-96868A22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CA1-8979-4ED5-9AC1-430C7993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802-4654-4C63-8AC1-E84730D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35DCD-2A96-42FF-BE33-1BD3663D65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