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20170"/>
        <c:axId val="66547304"/>
      </c:barChart>
      <c:catAx>
        <c:axId val="9982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47304"/>
        <c:crosses val="autoZero"/>
        <c:auto val="1"/>
        <c:lblAlgn val="ctr"/>
        <c:lblOffset val="100"/>
        <c:noMultiLvlLbl val="0"/>
      </c:catAx>
      <c:valAx>
        <c:axId val="66547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2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CE3-1618-4E61-B7DE-44B1F78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431-8356-438B-BF59-E1BBA8E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6BD-2BC4-48D6-A3DB-C5FCB32F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45F-34F3-4C52-8101-CA1F4BA5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EF5-E3BF-434D-8BDC-BF3672D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C6A-CBD2-4F74-9DD6-B7E97BD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2B9-049D-4AF1-9EC7-88B086B1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61F-70B5-43ED-B809-2A01627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3C7-9D43-4B05-B45D-195CBA8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187-7C71-46DC-8E1D-2A2ECF18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65B-D95D-4551-946D-6975BF7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9E2-3A2D-4F8E-AB79-DF6ADA84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250D-FEB5-41BA-A15D-0703FCE5D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