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629137"/>
        <c:axId val="69041320"/>
      </c:barChart>
      <c:catAx>
        <c:axId val="43629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41320"/>
        <c:crosses val="autoZero"/>
        <c:auto val="1"/>
        <c:lblAlgn val="ctr"/>
        <c:lblOffset val="100"/>
        <c:noMultiLvlLbl val="0"/>
      </c:catAx>
      <c:valAx>
        <c:axId val="69041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29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D1F-BC71-42A8-BAED-D62B849B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FD4-F503-4EF5-9B5F-E66E9314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7E0-33E1-4CAF-94EC-BA5F137C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D35-837D-488E-A979-11708864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DE28-C198-43CC-BE63-F0E36784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AC6D-C89C-4D68-9890-BB5F08DE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2DC9-7D81-41FF-BBF7-C9562920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5B1E-DFB5-450D-B231-ED045816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394-B954-477D-AECF-EA6CB323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FC9-5DCC-444F-92B4-A56E271B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C80F-4363-4923-8B7F-4A395D40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D35B-9073-4EC5-A464-B190ECF3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B513F-021F-4F32-B85C-2A2AA34BDC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