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134172"/>
        <c:axId val="35314672"/>
      </c:barChart>
      <c:catAx>
        <c:axId val="681341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14672"/>
        <c:crosses val="autoZero"/>
        <c:auto val="1"/>
        <c:lblAlgn val="ctr"/>
        <c:lblOffset val="100"/>
        <c:noMultiLvlLbl val="0"/>
      </c:catAx>
      <c:valAx>
        <c:axId val="353146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341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54CF-D04B-41B5-AF40-3C621916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B246-C956-4129-ACB9-602804E0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F76F-5898-4872-BE44-E8B64B173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E7D3-3CE0-4595-BF07-F20E0EA2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1077-A072-48C6-9C51-9A95FC4A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B05D-1225-4E55-B4DD-C3F77D17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BB9A-C30B-499C-AF10-0C2151A3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11F1-4DE5-4B96-9E61-48570F84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9DCD-B67A-42DE-B64B-84E3627A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A269-0343-4FAD-A346-E86D947C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0C2A-594C-42B0-AE87-8331B07F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8378-CAA6-4306-B822-178BD73B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1A9B3-5795-4EF8-85D4-BEB2945D1C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