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88431"/>
        <c:axId val="5193659"/>
      </c:barChart>
      <c:catAx>
        <c:axId val="12688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3659"/>
        <c:crosses val="autoZero"/>
        <c:auto val="1"/>
        <c:lblAlgn val="ctr"/>
        <c:lblOffset val="100"/>
        <c:noMultiLvlLbl val="0"/>
      </c:catAx>
      <c:valAx>
        <c:axId val="5193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88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C37-864F-4DBB-9EA3-7ED814AC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93C-AA76-4364-8EC0-C186CF48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2CB-2E25-4E75-A079-4EF40A9F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FAF-BAE3-45AE-B01E-B464CA3E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26E-0715-43C0-84DC-BFB3EB69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AE7-895F-4095-9F82-188C7B6F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7AF-B180-49F3-98B3-10F6B32A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39D-41B0-4D0D-ABFF-D54D4AB5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78F-3BF1-4229-886A-64ECE9F8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6F6-D261-4E79-87E7-D124AE04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C1D-6584-4EB6-B045-A400EE5D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058-C71F-4E80-A942-D5D65DB9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FB18A-D3C7-4A96-98C2-BEE6AB5673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