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13965"/>
        <c:axId val="65859125"/>
      </c:barChart>
      <c:catAx>
        <c:axId val="29513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59125"/>
        <c:crosses val="autoZero"/>
        <c:auto val="1"/>
        <c:lblAlgn val="ctr"/>
        <c:lblOffset val="100"/>
        <c:noMultiLvlLbl val="0"/>
      </c:catAx>
      <c:valAx>
        <c:axId val="65859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13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2FD4-C564-412E-84CF-0FAD6CEC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EE6-9C42-45C8-B694-FFE7739C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CAA-F9E8-42BC-B83F-A4153EB9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CAF-960F-4B24-A401-B1151D86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DE9-8E91-48CE-99F4-88AB2283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337-D8BB-439C-9C29-6009549A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F31-5063-48ED-B17B-135D9740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C31-0C08-46CF-A265-389EAD2C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343C-57E7-49C4-92E7-CFB06F39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D20F-5B4A-4CAB-89B7-E7A0AF79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464-B8A8-4A7D-9F59-91AA747A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F58-21BC-4A4C-9557-19073057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D37E1-6CAC-4D4D-9DBA-B8269DBB1D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