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40453"/>
        <c:axId val="34432712"/>
      </c:barChart>
      <c:catAx>
        <c:axId val="96540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32712"/>
        <c:crosses val="autoZero"/>
        <c:auto val="1"/>
        <c:lblAlgn val="ctr"/>
        <c:lblOffset val="100"/>
        <c:noMultiLvlLbl val="0"/>
      </c:catAx>
      <c:valAx>
        <c:axId val="34432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40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426-6C4C-4E74-9848-795B182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72C-63AD-4E1B-9247-6AD4313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800-CD86-4CF9-B801-1BB86624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A30-D1F8-4689-B713-C77BD0A9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68A-EC12-4D86-B7C9-B4C56860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92D-359D-4A86-AD00-E783DF4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3FE-10E5-4AFD-941B-8AD14E2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61E-1E43-4893-9A8D-CF10F631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894-96DC-4DDB-95AB-54E03F8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413-2213-42D8-B16B-3F25074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64D-24A5-4C25-BB82-611E1D0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252-BAC2-491B-B99E-ADB3A59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28028-574F-4713-A4A4-FD4CE50F1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