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34532"/>
        <c:axId val="65800570"/>
      </c:barChart>
      <c:catAx>
        <c:axId val="77634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00570"/>
        <c:crosses val="autoZero"/>
        <c:auto val="1"/>
        <c:lblAlgn val="ctr"/>
        <c:lblOffset val="100"/>
        <c:noMultiLvlLbl val="0"/>
      </c:catAx>
      <c:valAx>
        <c:axId val="65800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4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BA3-2D97-4450-A356-9A3F3714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7C0-C8FD-4573-9C49-4198B521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906-B26A-4FA1-B849-81D0A1EB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D6C-97B5-4722-8E52-ED112898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D37-162C-4F93-B0A8-3F5B6175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3CC-4F62-4553-9FCA-4BF8193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155-4621-4CBD-846F-45B68A72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C3A2-6CC5-4DC1-A382-84D63782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F5B-E600-4287-9674-C905CFC0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EB1-B95D-4ACA-BDAC-6E4850B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9EE-5963-4625-A426-F4F0088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FE8-2616-4B7B-9C20-5B459E2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76A85-206B-44E1-AFC7-DF703D7A4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