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5413"/>
        <c:axId val="66209735"/>
      </c:barChart>
      <c:catAx>
        <c:axId val="1335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09735"/>
        <c:crosses val="autoZero"/>
        <c:auto val="1"/>
        <c:lblAlgn val="ctr"/>
        <c:lblOffset val="100"/>
        <c:noMultiLvlLbl val="0"/>
      </c:catAx>
      <c:valAx>
        <c:axId val="66209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5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460-27C8-418A-AC67-A788AAF3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BEF-D05D-4209-8A37-F50F64A2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440-9627-40E5-AF8A-59B985E5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5E7-2004-4B05-B820-201065A7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6D0-250F-44A4-945D-34FB8B8D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B5C-82C4-499B-9BAF-3E796387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5A9-3040-40EF-9DD1-315294F2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FD8-1E37-4210-9C96-A083A2DA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4A0-9D17-4BEB-9253-E83EB373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4CA-4FCE-4D6D-A369-7D231254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28C-8A9B-4FAB-BFC0-5BE75827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7C7-840B-4F48-A77C-ED9EF38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6A560-C653-4598-B17B-8B8FBEBF0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