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86081"/>
        <c:axId val="34258818"/>
      </c:barChart>
      <c:catAx>
        <c:axId val="77186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8818"/>
        <c:crosses val="autoZero"/>
        <c:auto val="1"/>
        <c:lblAlgn val="ctr"/>
        <c:lblOffset val="100"/>
        <c:noMultiLvlLbl val="0"/>
      </c:catAx>
      <c:valAx>
        <c:axId val="34258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86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0B3-0F16-4D69-A840-B256BE92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75C-5A63-48DA-ABD3-2F5F5D8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7DE-D853-4A39-93CD-29D580A7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AEE-5B47-4E6F-8FC0-7DB2736F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61A-F862-4740-9CA7-FFA397F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BDA-F77D-44B8-A256-ABB6F658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878-0BE7-4251-A868-6B93E67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DFF-A31D-475F-BACE-39470D7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9E3-70CC-41BF-9C0F-9F9C436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892-2776-4A4E-A91A-D8A395F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271-D577-4265-9F71-42A3FAC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DB4-9315-4612-A661-704FA21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2B5DD-A8EF-4765-842D-818BA99B0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