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24391"/>
        <c:axId val="67943815"/>
      </c:barChart>
      <c:catAx>
        <c:axId val="72124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43815"/>
        <c:crosses val="autoZero"/>
        <c:auto val="1"/>
        <c:lblAlgn val="ctr"/>
        <c:lblOffset val="100"/>
        <c:noMultiLvlLbl val="0"/>
      </c:catAx>
      <c:valAx>
        <c:axId val="67943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24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438-E1D5-4DF1-AE78-DF6D66CB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19A-8CD2-4119-884E-2D90477B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43D-25A5-4882-9576-3F800FC3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9A0-1B09-4D8A-BB6C-2A52FF36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35C-E52B-4AA6-80C9-A5E62563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E7D-000A-4C83-8784-F1A37F52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048-F75F-4CD4-A1AA-2AA59683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5A9-EAD4-48F0-BC49-CFB1F97A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C43-29B4-4B9F-B6BB-1B925822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00C-38FA-4028-B362-DA50D702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40F-34C8-48E9-BFB1-890550A6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2B1-BD95-43D2-8A01-21E0AA2A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74063-FAAB-4C77-BC01-3BE90626E5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