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41553"/>
        <c:axId val="16188689"/>
      </c:barChart>
      <c:catAx>
        <c:axId val="88441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88689"/>
        <c:crosses val="autoZero"/>
        <c:auto val="1"/>
        <c:lblAlgn val="ctr"/>
        <c:lblOffset val="100"/>
        <c:noMultiLvlLbl val="0"/>
      </c:catAx>
      <c:valAx>
        <c:axId val="16188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41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6CB-196E-4302-9B2C-A62DFC5D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25F-37FF-4039-B339-398E6960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BF9-2975-4120-B7EA-CAC5C302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756-E26B-4E40-BB32-7FFC18E6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BE3-E6D2-4B6A-9C79-AAD300B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216-EC7D-41D3-B60C-8660C92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B3B-36F1-4E49-8B66-B78F4492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E2A-5116-42A3-9075-CCA6704D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947-4009-4411-8377-A50C0A85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9B9-0AE0-4300-97F4-495F7B39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C9F-F549-49D9-8BD4-65BDE6F8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822-9DFE-403D-81AF-A33E8363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A28E1-10B5-44D0-A37A-440B8556CA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