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66333"/>
        <c:axId val="20460718"/>
      </c:barChart>
      <c:catAx>
        <c:axId val="9166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60718"/>
        <c:crosses val="autoZero"/>
        <c:auto val="1"/>
        <c:lblAlgn val="ctr"/>
        <c:lblOffset val="100"/>
        <c:noMultiLvlLbl val="0"/>
      </c:catAx>
      <c:valAx>
        <c:axId val="20460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6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63D-55BA-4A68-ADC6-7C46E69C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87B-4A54-4478-B2F1-8EB3EDB0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1AD-1A0B-4979-81FB-9226D61D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072-8D19-4281-ACA6-852C9FC3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BF7-AEF1-4CFE-8388-D050C805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D77-B534-474C-B47E-53339D5F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AB5-0156-4B6E-A645-3C5E82B7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E6B-B86A-4718-9CBC-FB939A04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6CE-560C-43FC-8669-3F782A3C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EE8-7C3D-4DA4-9B37-D2138E04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F4F-7928-4A7A-BC05-631E3320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8FC-9FEC-466C-8BB6-8EF7C23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E96DC-5C38-4DDF-BCC0-3CDFD3085B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