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11295"/>
        <c:axId val="90731364"/>
      </c:barChart>
      <c:catAx>
        <c:axId val="74211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31364"/>
        <c:crosses val="autoZero"/>
        <c:auto val="1"/>
        <c:lblAlgn val="ctr"/>
        <c:lblOffset val="100"/>
        <c:noMultiLvlLbl val="0"/>
      </c:catAx>
      <c:valAx>
        <c:axId val="90731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11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7F1-4CB1-4F61-BFEE-2D2D6AFE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4AC-0999-4000-8475-4327F775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638-B6CF-4485-A5F1-6B9536A9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867-BBE7-4020-9E3D-F85D75C0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42B-FC39-401E-B18C-904C9BC2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5FA-C01A-4B33-8765-63675D9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8B9-CA20-4720-B136-2797C822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F723-A642-4D7C-B4EB-A7AD433C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E4A-F90D-4901-B688-EA42B3F5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8BB-6CFA-4297-8AAE-3C8B281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E53-3F66-4054-B3A0-8039E1F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2A4-EA10-4130-A00C-0B34473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6111C-13A7-4C3D-A0AB-97DF145CA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