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12502"/>
        <c:axId val="28371857"/>
      </c:barChart>
      <c:catAx>
        <c:axId val="19312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71857"/>
        <c:crosses val="autoZero"/>
        <c:auto val="1"/>
        <c:lblAlgn val="ctr"/>
        <c:lblOffset val="100"/>
        <c:noMultiLvlLbl val="0"/>
      </c:catAx>
      <c:valAx>
        <c:axId val="28371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12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705-9771-45B3-BDC4-8F9710B5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ADF-8C5D-4169-98EC-FE4246F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87F-8E2E-47E6-9A4E-037314E3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3D5-4235-4D0B-9517-FC625C31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D45-D73C-46DA-9B0C-9EC4780E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773-81AA-48BB-A6A1-6C34D23F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7B9-10C1-4351-B468-85ABBBCD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BF6-85E2-436F-B8C5-EEE0D54C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E89-2964-4293-8CDF-7CC5A7F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F40-C6F5-4E55-9D13-533B5DD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5F0-B803-40B1-AC5B-99A93F2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A4C-3C7F-4EE3-B92D-292561F4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F8E96-C588-4690-9477-C6C3DD2427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