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56391"/>
        <c:axId val="10227422"/>
      </c:barChart>
      <c:catAx>
        <c:axId val="43756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7422"/>
        <c:crosses val="autoZero"/>
        <c:auto val="1"/>
        <c:lblAlgn val="ctr"/>
        <c:lblOffset val="100"/>
        <c:noMultiLvlLbl val="0"/>
      </c:catAx>
      <c:valAx>
        <c:axId val="10227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6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630-2B6F-4BEA-95DC-0816FBB1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09F-4253-4E7F-B808-7470EDD7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BE3-037F-474C-9161-C381431F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02D-7AE8-48F8-B0BC-60E63204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2AE-E5B3-45E7-BDB8-A0D60F88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014-AF32-41C8-A5F7-9EF2D26D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CAF-923B-462F-AD11-FFC1148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954-865C-487F-B9EA-F9802D3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7FE-454A-44E9-B93E-DCDA3CBB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A94-9357-4A3F-92DC-A3C01F9B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998-720F-42AC-B40C-C080BDD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E21-F4CA-4700-BEC0-B5B4501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498AC-F242-40F9-8B7A-8D3B7155B8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