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78837"/>
        <c:axId val="76584962"/>
      </c:barChart>
      <c:catAx>
        <c:axId val="83878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84962"/>
        <c:crosses val="autoZero"/>
        <c:auto val="1"/>
        <c:lblAlgn val="ctr"/>
        <c:lblOffset val="100"/>
        <c:noMultiLvlLbl val="0"/>
      </c:catAx>
      <c:valAx>
        <c:axId val="76584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8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31E-64CE-4F11-AE3F-00DABE2B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85-DDCA-40E2-BED5-8C25195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153-6883-4FA6-98BC-D8AF486A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A10-18B7-4218-BFB3-1B9B3771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57D-7C4C-4C67-945F-720B027E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3F5-9498-472A-81E7-1606D3D2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086-1B0F-4440-9089-240CE034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BC4-B4E4-4B58-A28F-A7054AA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A9E-728E-4217-8E6D-80C2C403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AEE-0A5D-4EE4-B935-EA8A4CC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249-DB6F-4124-AD5C-4AC4E421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ABD-FCFB-4916-80CD-3A6FB269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2828-DE02-4C83-8186-9BEF68FBCE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