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75942"/>
        <c:axId val="82212049"/>
      </c:barChart>
      <c:catAx>
        <c:axId val="50175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12049"/>
        <c:crosses val="autoZero"/>
        <c:auto val="1"/>
        <c:lblAlgn val="ctr"/>
        <c:lblOffset val="100"/>
        <c:noMultiLvlLbl val="0"/>
      </c:catAx>
      <c:valAx>
        <c:axId val="82212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75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42A-1D29-4F9C-82F8-5FA52576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105-23C7-4E2E-A37E-8086C491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03B-D3D6-4FDB-827A-3CD7C5AD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902-EF4D-4C4B-A2C1-44715217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6C7-93BF-4299-A0A2-1A948915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053-B10A-48B3-A697-154F214D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858-FFA0-4BA3-8AC4-B8042849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729-15F4-4A6E-AF25-FA2BF51E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D77-5FCA-42BD-86A1-0E0A3804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56E-8D61-416C-83A6-1B6AB1FF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67F-4553-4A67-9939-2C4D827F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8AA-4ABE-40B0-80C0-EA88CB9D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F1D62-3C7C-49B2-8252-AB723B3183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