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52674"/>
        <c:axId val="68989344"/>
      </c:barChart>
      <c:catAx>
        <c:axId val="50352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89344"/>
        <c:crosses val="autoZero"/>
        <c:auto val="1"/>
        <c:lblAlgn val="ctr"/>
        <c:lblOffset val="100"/>
        <c:noMultiLvlLbl val="0"/>
      </c:catAx>
      <c:valAx>
        <c:axId val="68989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52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83E-223D-447E-9CEA-A92FA11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C80-7BC9-48DE-B520-9FF1AA71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9C1-2225-44FA-AEB4-02657DE5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2FB-74BB-4BF5-A9AC-015FD9F1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255-7605-4D19-A50C-EBFF9349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8E0-C59C-43AD-85DC-73138B0D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B71-11A8-478F-92DC-A37B9EA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A55-D8F7-4E9C-8998-C0A28965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435-74B3-4FC9-BB75-DD2718F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C90-7612-491F-B991-675E3CE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27F-101A-4F68-9C03-71865A3B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A51-0ACC-4D1D-B82D-C5C9E32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857A-47DD-46AA-9069-FEC492720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