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13348"/>
        <c:axId val="48719576"/>
      </c:barChart>
      <c:catAx>
        <c:axId val="90513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19576"/>
        <c:crosses val="autoZero"/>
        <c:auto val="1"/>
        <c:lblAlgn val="ctr"/>
        <c:lblOffset val="100"/>
        <c:noMultiLvlLbl val="0"/>
      </c:catAx>
      <c:valAx>
        <c:axId val="48719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13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A7E-1ADF-49FA-B11E-4FF66210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5D5-6F36-468A-AEAE-DD795631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4DB-EA74-49E1-923B-8DD33A92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552-4B66-4DF7-9FBC-DC2721A3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82D-C1A3-4463-A420-ABDE758E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8BC-B626-41E5-803F-2A982F31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E08-DE59-46BB-B942-CA15DE12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9E8-8180-4144-AA22-015CF16B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ABF-E0C3-4683-A083-169AE2B3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97D-3A6B-4BC2-8947-EB45DE36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E49-38EF-47AB-B173-266D41F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ABF-DA3D-4A15-BC61-720ACC9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A0123-67F8-425E-A24F-DC87C5BBFE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