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532949"/>
        <c:axId val="3672388"/>
      </c:barChart>
      <c:catAx>
        <c:axId val="19532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2388"/>
        <c:crosses val="autoZero"/>
        <c:auto val="1"/>
        <c:lblAlgn val="ctr"/>
        <c:lblOffset val="100"/>
        <c:noMultiLvlLbl val="0"/>
      </c:catAx>
      <c:valAx>
        <c:axId val="3672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32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E3A8-2F2A-4FDE-9E99-5982B38A8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31A5-764F-48DE-BE3E-7BEEB3EC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2FA8-3541-4552-832D-C6C608950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48BE-D42B-4E85-83B0-7C521BEA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163D-434A-46E5-B190-CC3F2B90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211F-6160-42D9-B131-CB2DEE7EC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FE0-66EE-41C5-838D-1155837E9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367C-302E-4881-AB1A-47E77DB1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391-7385-4D2D-A07F-092C7E0B5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1D46-1700-46A0-9A40-7EC6B81D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5C22-8692-4B0D-918F-2EA77EA1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DA31-6699-4E47-AB46-9795D60D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C4DC0-C906-4CCF-8EE8-05289D4F0F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