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71233"/>
        <c:axId val="63705584"/>
      </c:barChart>
      <c:catAx>
        <c:axId val="85471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5584"/>
        <c:crosses val="autoZero"/>
        <c:auto val="1"/>
        <c:lblAlgn val="ctr"/>
        <c:lblOffset val="100"/>
        <c:noMultiLvlLbl val="0"/>
      </c:catAx>
      <c:valAx>
        <c:axId val="63705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71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24C-9B20-4F67-BE51-EA5B811C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26E-F0D9-4337-8328-38A3170E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8B0A-DF35-49E3-80D8-153C1404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864-411D-4286-92F1-038AC13C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7AF-EF60-43BF-BBE5-B9CF4A0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DAC-4D39-401D-807A-44F8B877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92B0-A253-4F1D-8549-10F9C13F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B8F-42E9-4413-BD24-7BB879C6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33E-87A6-4A53-9C91-77693FD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0AC-6114-4B40-AD56-83EA136D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203-885C-4D4E-BFBC-137605F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79C-FF6F-464B-B8A7-65A5E6A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459AF-845F-4BA4-B1AF-04518B6373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