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66320"/>
        <c:axId val="13393924"/>
      </c:barChart>
      <c:catAx>
        <c:axId val="99766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3924"/>
        <c:crosses val="autoZero"/>
        <c:auto val="1"/>
        <c:lblAlgn val="ctr"/>
        <c:lblOffset val="100"/>
        <c:noMultiLvlLbl val="0"/>
      </c:catAx>
      <c:valAx>
        <c:axId val="13393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66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DD8-D584-4762-A35D-412AC0D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1F5-9BCA-4FB6-8BA7-60C3F445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409-2D0B-4C1B-BB4F-0BEC73D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31D-4CAE-4255-A01E-C70E4456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BD1-DC7A-497D-A4D8-00E9EBA1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E1D-66B8-4F76-A8D8-D371E6EE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592-2105-4147-80B1-4D18CC9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F7C-EBE5-4736-8F58-1E6E61F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F34-F33B-49CE-999A-30114B2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8C5-FA8D-4EEC-B1B1-BEBE38D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CCE-94A3-4ED6-8A98-AE80ADD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FBF-0B37-4570-985F-D7010C2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EBA1E-610A-4AA7-9C8D-B4C50CA97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