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25356"/>
        <c:axId val="73273020"/>
      </c:barChart>
      <c:catAx>
        <c:axId val="91325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3020"/>
        <c:crosses val="autoZero"/>
        <c:auto val="1"/>
        <c:lblAlgn val="ctr"/>
        <c:lblOffset val="100"/>
        <c:noMultiLvlLbl val="0"/>
      </c:catAx>
      <c:valAx>
        <c:axId val="73273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5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7BC-05DE-4D9F-9D5F-D0385106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0D0-1836-49D5-94AE-777533B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7C7-0289-4806-A9A6-4CA13BC9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EBE-1853-4EDA-9D5C-5DE9F189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B9A-EC48-403B-9289-EA95C718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D3C-7E1C-4C3B-B5A2-9D70E57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237-3C14-40AE-8AD0-C78E00D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137-3F8E-4F64-981C-174C10E5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9A8-7DEF-403E-AAE4-19ACAC7A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D8D-316F-4AAE-B26F-3E6739F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C1D-57AA-46FA-87FE-A1DAE16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8AD-9503-470D-B3B2-95BCDEC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1E76-2B99-4141-854F-B13F87FD1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