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3153"/>
        <c:axId val="26763003"/>
      </c:barChart>
      <c:catAx>
        <c:axId val="8853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3003"/>
        <c:crosses val="autoZero"/>
        <c:auto val="1"/>
        <c:lblAlgn val="ctr"/>
        <c:lblOffset val="100"/>
        <c:noMultiLvlLbl val="0"/>
      </c:catAx>
      <c:valAx>
        <c:axId val="26763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671-DB56-4151-874C-5B06C711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EC5-BBE8-465F-A17E-4A9ABC8B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1B5-485A-4318-BCF3-9CA50F32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AC3-84B9-4822-A3BC-4181806F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736-D99F-4EE0-A30C-ECA11BED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707-B0EF-4081-9A9F-75FE5F4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220-97B4-4725-AFB1-1442309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BF8-5EE2-41A9-AB8E-5539A48F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57F-C2E3-4762-BDEE-4CE89678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665-A6B3-450F-99A3-B312EA4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A1E-EAC5-4AB4-A28B-0FC517B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D02-CC61-4773-B8F7-8E799F1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FF9E9-3CCA-43E9-88B5-AAB0829F7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