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460385"/>
        <c:axId val="8201506"/>
      </c:barChart>
      <c:catAx>
        <c:axId val="244603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1506"/>
        <c:crosses val="autoZero"/>
        <c:auto val="1"/>
        <c:lblAlgn val="ctr"/>
        <c:lblOffset val="100"/>
        <c:noMultiLvlLbl val="0"/>
      </c:catAx>
      <c:valAx>
        <c:axId val="82015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4603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A8A4-04A3-4A4A-A30B-F78102785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0559-C16A-4092-9080-F5FE0C2B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0272-5AA7-428B-AF53-124EEA560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1A21-CAAD-445C-861D-B769BEBE8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7DA9-9D39-4830-A762-47DC609E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92FB-637B-4787-AA6D-5607B588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5B0B-3388-4C1B-A740-8FFAF979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2442-84C0-4911-AF73-C39D46F5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F2AF-77BD-4738-BB16-6DF6E063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B86E-CAF6-4042-9C13-05A80E7D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818F-92E9-4AD3-ABC4-ADE17C19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4DAA-36F3-46FE-BBD4-71501A5B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DB0F4-E64A-48AE-A1BF-9EFB01EFB8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