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35412"/>
        <c:axId val="62538947"/>
      </c:barChart>
      <c:catAx>
        <c:axId val="43735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38947"/>
        <c:crosses val="autoZero"/>
        <c:auto val="1"/>
        <c:lblAlgn val="ctr"/>
        <c:lblOffset val="100"/>
        <c:noMultiLvlLbl val="0"/>
      </c:catAx>
      <c:valAx>
        <c:axId val="62538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5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EB7-681E-40CD-9021-A1365C71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34D-1754-4BF5-9E5D-190B4D2D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0ED-B2F8-42C0-AE51-C227FD8A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2BD-99F7-4CF5-BFED-EB3B84BB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856-8F7A-4AB0-A748-98F6BC2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555-D252-4E7D-86EF-C3685EF4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C0F-540C-4567-8921-349F49D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EE8-330C-402F-805D-6D8107CA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4F0-C2BD-4210-83A1-EDFAFD9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1BC-155D-485B-8124-650C122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CBD-91D5-4265-89A1-0B70DFE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F45-A193-42FF-B135-5D1CAA13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CDBD-38CC-4874-B263-74B0E527DE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