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43289"/>
        <c:axId val="34644527"/>
      </c:barChart>
      <c:catAx>
        <c:axId val="37343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4527"/>
        <c:crosses val="autoZero"/>
        <c:auto val="1"/>
        <c:lblAlgn val="ctr"/>
        <c:lblOffset val="100"/>
        <c:noMultiLvlLbl val="0"/>
      </c:catAx>
      <c:valAx>
        <c:axId val="34644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3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34A-1A62-42BF-87B4-3B4730EB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C32-DA00-45A1-A6B7-33A9D4CD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17A-C594-436C-9C0E-55DCF9FC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87F-770D-4BCA-8783-1A029E77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B3E-B6DF-4667-A8DC-B68BC6A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15E-BC7E-478E-937F-84D68E16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ECF-06CA-4F07-8798-2C34DE0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692-BC36-4944-87F0-6FC78D3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FF8-131F-48AE-BEDA-13DF6C6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638-7C9B-4B09-B629-98267387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CE5-AFF7-437C-9C70-969915D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6FE-2D5B-4670-8768-EBC1316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B8579-EFEF-4715-A7A1-4A7D9593A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