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18623"/>
        <c:axId val="47078396"/>
      </c:barChart>
      <c:catAx>
        <c:axId val="6291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78396"/>
        <c:crosses val="autoZero"/>
        <c:auto val="1"/>
        <c:lblAlgn val="ctr"/>
        <c:lblOffset val="100"/>
        <c:noMultiLvlLbl val="0"/>
      </c:catAx>
      <c:valAx>
        <c:axId val="47078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1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1C9-F63D-4413-9122-65A4B9DA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A6A-7BC9-45C1-9552-5578A13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6DE-A7A2-4D0A-9B4F-2BC83AA0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836-BAFB-464D-8C17-6ECF8609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E4E-A402-493F-A56E-D87B62A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3B1-45E5-42D2-BA3E-985B70BD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584-8A5A-4147-884E-26DD9796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3F9-B8E7-47BC-BA14-F505F808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F24-C828-456C-BC8F-9D357636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749-7E96-4F14-84F6-114D1D3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E3B-8DDA-407E-90D0-3221C86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A1E-3549-4A57-ADD6-C61BCFF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84895-6471-4D06-81A7-BDF448DAD4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