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7998590"/>
        <c:axId val="45948111"/>
      </c:barChart>
      <c:catAx>
        <c:axId val="6799859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5948111"/>
        <c:crosses val="autoZero"/>
        <c:auto val="1"/>
        <c:lblAlgn val="ctr"/>
        <c:lblOffset val="100"/>
        <c:noMultiLvlLbl val="0"/>
      </c:catAx>
      <c:valAx>
        <c:axId val="4594811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99859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FC432-60BD-4296-9B0F-02BDE4F13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AF269-70CF-4AC2-A557-44E464CE5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A5DD7-753D-4CA7-849C-A958ABACD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EDC2D-C29A-4B3A-AB3C-38C301D44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E5490-51F1-4419-B49A-5DEED9B76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ED379-A46F-4F12-BA7E-E2DEAF4AE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8B022-535C-4443-B3C8-0E63E6CD1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AE1EE-1CBB-4F2C-A940-EC05A1EC8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AEF94-0100-43BD-8DA1-314A89DED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B2A74-0277-40E4-ABE0-1E97313C8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58461-EF75-4BFF-8A80-D83CC1515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EDB9E-DEF0-4176-A778-001B0C7BA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EE916F-F7CF-4545-8745-5DB57D6E3B1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