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23060"/>
        <c:axId val="25723474"/>
      </c:barChart>
      <c:catAx>
        <c:axId val="51323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23474"/>
        <c:crosses val="autoZero"/>
        <c:auto val="1"/>
        <c:lblAlgn val="ctr"/>
        <c:lblOffset val="100"/>
        <c:noMultiLvlLbl val="0"/>
      </c:catAx>
      <c:valAx>
        <c:axId val="25723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23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180-27DE-4E17-A9E4-7686C183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F71-4C77-43E0-9E85-B061C777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21A-A2CA-4E02-BD4A-A2C754D2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F59-10A1-45B8-BD00-94350B47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B3D-8288-4803-A945-50699B22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3D8-8E57-4F72-B2C2-F3683CA3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F9C-7825-44A0-8E19-31DB68B3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203-938D-4CFD-9845-A0F0874C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CF2-AF8B-43BE-8C46-5840270A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D6D-D73B-44E5-9308-EA3E0DCE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C7C-4E50-4917-9A56-6B84FCA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D28-476C-4E5A-BEC6-25AABC0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32AE8-1EC6-4C93-8DDD-820B5C1B4C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