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779130"/>
        <c:axId val="87048525"/>
      </c:barChart>
      <c:catAx>
        <c:axId val="18779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48525"/>
        <c:crosses val="autoZero"/>
        <c:auto val="1"/>
        <c:lblAlgn val="ctr"/>
        <c:lblOffset val="100"/>
        <c:noMultiLvlLbl val="0"/>
      </c:catAx>
      <c:valAx>
        <c:axId val="870485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79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34D2-13F4-4076-8FD9-37A2022F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7555-E56D-4614-B913-BBA95C2A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8F91-87BE-4FD1-AB2D-F8A78C8E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3B22-CCBD-444B-9287-E171F7BC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E7A2-45F8-4102-94C9-996AE39B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F3B9-A8E8-456B-8AAE-5B4CCBFC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C2D4-B492-4AC6-9454-72C58E50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3BB1-30FA-4D75-AE93-C71AA7DD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D84C-6A03-4952-8BE2-4B5B55FC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3BCD-A90D-40FE-9083-203BD3B8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CC0E-E4FF-443A-87DB-85DE9B9C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D9D2-CBEE-48C7-A1DC-FBF0EABB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A55AF-BDBD-4ED7-A4DA-0432BC5CFC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