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8319"/>
        <c:axId val="15450842"/>
      </c:barChart>
      <c:catAx>
        <c:axId val="5808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0842"/>
        <c:crosses val="autoZero"/>
        <c:auto val="1"/>
        <c:lblAlgn val="ctr"/>
        <c:lblOffset val="100"/>
        <c:noMultiLvlLbl val="0"/>
      </c:catAx>
      <c:valAx>
        <c:axId val="15450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8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F0D-B141-4970-A734-4ACCE61D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4DC-4BED-44D9-A1E8-250364E2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BB4-5847-4498-8FC8-883B952C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BF5-921A-44A0-9209-2C67EB02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F7B-CB6B-4366-8E70-FF3658F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C89-4705-4129-A113-D30A555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704-CA58-46F8-BF6D-B4F734E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43B-5B33-4194-93FB-3D32DE9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9F4-3535-40F5-8674-91ED3569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CD3-D363-4C88-A92E-EBDBCCB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8AA-1D8C-4FBE-9312-0AE827B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333-7108-4828-9275-C80A47C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325C9-E67B-4257-B19B-04A3AF3955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