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49999"/>
        <c:axId val="54975447"/>
      </c:barChart>
      <c:catAx>
        <c:axId val="64849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75447"/>
        <c:crosses val="autoZero"/>
        <c:auto val="1"/>
        <c:lblAlgn val="ctr"/>
        <c:lblOffset val="100"/>
        <c:noMultiLvlLbl val="0"/>
      </c:catAx>
      <c:valAx>
        <c:axId val="54975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9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E9A-1C8F-4472-A90C-5845DC5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0C1-F58C-4AA2-B1C4-1832520E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1D6-152D-4835-ACFC-5C8770D3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780-BB97-4106-85BD-60A23C88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B3B-D020-4109-B35E-4F9499C3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A70-FAE9-4E4C-B7B6-F273C048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12D-92B8-414E-9A08-B6595AC5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FDD-0000-4C7B-94A8-DEAF5D45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887-4987-4052-92DB-9478FBC9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BA5-6BF0-4593-9A6A-111F0ADB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3C9-2CFA-4441-9023-48EBF9F4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F05-2130-49B2-A6B1-FE170D5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1066F-115C-491E-AE77-DF6ED93F5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