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35494"/>
        <c:axId val="12943865"/>
      </c:barChart>
      <c:catAx>
        <c:axId val="52535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43865"/>
        <c:crosses val="autoZero"/>
        <c:auto val="1"/>
        <c:lblAlgn val="ctr"/>
        <c:lblOffset val="100"/>
        <c:noMultiLvlLbl val="0"/>
      </c:catAx>
      <c:valAx>
        <c:axId val="12943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5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BCE-3D3A-4B33-9BBF-F9B1AD8A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DCB-4247-4F82-8028-92353A60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07C-25C1-4201-9098-B3C1198F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58C-A3D6-4DB2-A0CC-59424E04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3DA-0C47-45AD-B97B-60DC209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877-11DB-4CDD-B749-6488320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844-F42E-4785-86D2-E3305EC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86A-9E95-4433-830C-383EA52C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233-AF08-4B8D-887F-E352E17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FAD-4B1D-4B2E-827E-8975448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3EA-22A6-4BDB-9FC8-813464B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20E-4452-4DCE-95EA-A41DE30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7315A-BB2B-4D17-9FD0-15CE3A249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