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39313"/>
        <c:axId val="33329480"/>
      </c:barChart>
      <c:catAx>
        <c:axId val="49839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29480"/>
        <c:crosses val="autoZero"/>
        <c:auto val="1"/>
        <c:lblAlgn val="ctr"/>
        <c:lblOffset val="100"/>
        <c:noMultiLvlLbl val="0"/>
      </c:catAx>
      <c:valAx>
        <c:axId val="33329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9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E66-A771-4032-ACF2-2DB41C6B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F5B-F48F-4A3A-A856-33D6A081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FFD-6127-49AB-BC9A-A4431AB1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B37-137B-4ED7-A6A0-DD2812A0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749-BB12-444F-81CC-690482D7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717-6827-4937-A6F5-9E8B93FC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67E-506B-4E63-8DA9-5C984CBB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A45-E704-489D-865D-0C4D2C4A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307-A82A-4DCC-8EC7-BE70960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4AB-25CC-4932-9860-B80D8AC7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397-6A6D-4E35-B7CD-144C754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A8B-EAC6-4A98-BF58-59E377D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43D4B-4EEE-4CCA-8BBF-1F7DADC06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