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36797"/>
        <c:axId val="5882378"/>
      </c:barChart>
      <c:catAx>
        <c:axId val="51036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2378"/>
        <c:crosses val="autoZero"/>
        <c:auto val="1"/>
        <c:lblAlgn val="ctr"/>
        <c:lblOffset val="100"/>
        <c:noMultiLvlLbl val="0"/>
      </c:catAx>
      <c:valAx>
        <c:axId val="5882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36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7A3-7211-4742-9B7A-F495D930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D2C-00C7-4C4D-8BBD-A20946F5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6902-11C1-4D86-BF86-576CE830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FDA-6056-4AF2-B988-DDCA7707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941-927F-424B-BB85-309F463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99E-77F7-4A10-AC52-B5AA954F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C75-5852-4CF9-A8C7-4968AB7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9BF-4AFC-4CAE-93DA-A535D69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59F-4764-4EA3-8DB5-ABCBD2CF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B15-4FD6-48FB-A072-8C3FDA66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CEF-F536-4B0B-ACCB-0281409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C74-7AB7-4467-BFED-C7756EC8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C23C-27BC-4632-A056-F92E2C312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