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71753"/>
        <c:axId val="90445557"/>
      </c:barChart>
      <c:catAx>
        <c:axId val="34717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45557"/>
        <c:crosses val="autoZero"/>
        <c:auto val="1"/>
        <c:lblAlgn val="ctr"/>
        <c:lblOffset val="100"/>
        <c:noMultiLvlLbl val="0"/>
      </c:catAx>
      <c:valAx>
        <c:axId val="904455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17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24AE-5EF3-4762-B62F-5FE15330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C8D1-EFFD-41E8-B1E3-704A47DD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F482-CFF3-4C5B-B5F4-12239F58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AF1E-2D73-4C5E-B912-CA500CC4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5FBD-D2DF-4AC8-92D0-A8B3F47C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A88F-9B68-4268-A9DF-60F19FF4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1124-4510-4D56-9C66-1788EA3C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36AF-ECB4-42B4-B71E-A92EED89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D4B4-7380-4770-82D8-5D4C38EF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56F8-7E38-4F01-AD73-0A054949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3254-F0B5-4657-B938-CFA28821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644-9D91-40D6-92DE-805FD254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3FCD0-6191-4C43-9ED6-505C023BD1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