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79136"/>
        <c:axId val="98169142"/>
      </c:barChart>
      <c:catAx>
        <c:axId val="23079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9142"/>
        <c:crosses val="autoZero"/>
        <c:auto val="1"/>
        <c:lblAlgn val="ctr"/>
        <c:lblOffset val="100"/>
        <c:noMultiLvlLbl val="0"/>
      </c:catAx>
      <c:valAx>
        <c:axId val="98169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79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7C7-0873-41C3-AF32-26730459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41F-893C-44E1-88E2-BE05E1C7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C95-0AA3-410C-8C76-23536042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874-369A-4DD8-82FA-84DE9E3C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951-F583-48EE-A709-04C05782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20E-7F29-4394-81AB-EF4EAAC8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476-523C-4743-A421-F3AC1922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560-A5AA-4B24-912F-CD7D244A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8F2-8FF1-41F4-A9A7-4B67C376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264-AE81-4F15-B224-E6C7AF9E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92E-73F7-4187-A573-14D4017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E1C-A836-4B8D-87D0-93E1D8D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650C7-78F7-48C1-93E8-F30FF13BA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