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91465"/>
        <c:axId val="99513994"/>
      </c:barChart>
      <c:catAx>
        <c:axId val="19191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3994"/>
        <c:crosses val="autoZero"/>
        <c:auto val="1"/>
        <c:lblAlgn val="ctr"/>
        <c:lblOffset val="100"/>
        <c:noMultiLvlLbl val="0"/>
      </c:catAx>
      <c:valAx>
        <c:axId val="99513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91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4D0-8FB4-4EEF-8A1D-F26B94B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386-2D28-4D46-BE9F-3A81976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BE3-6C1E-470E-ABB9-5C794A0C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966-FF20-47E4-B966-3DEEB63A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AEA-2C01-4B18-B8EB-0D7DE43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8DD-64CA-4116-B5A2-8784AC8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B93-95AC-40BE-94E8-4547E25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B61-268D-4DA5-8547-27D31CDF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556-13E5-4C94-91B7-AB024E2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907-1EAE-4BEC-86CE-67BA65C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88B-48A7-480E-A153-646974E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776-D6E6-46E6-ADFC-C325E5C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0032-59B2-4D0D-9DFA-0DDCF9FD9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