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58751"/>
        <c:axId val="16047734"/>
      </c:barChart>
      <c:catAx>
        <c:axId val="87458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47734"/>
        <c:crosses val="autoZero"/>
        <c:auto val="1"/>
        <c:lblAlgn val="ctr"/>
        <c:lblOffset val="100"/>
        <c:noMultiLvlLbl val="0"/>
      </c:catAx>
      <c:valAx>
        <c:axId val="16047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58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733-4530-4D9D-869F-A4ABFFFD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C4A-9788-4E03-B304-6E32E02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2F4-E674-4291-A388-61EA2A8C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B74-AF23-4DD1-A979-228105B7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C84-56ED-4A65-89AC-9865ADB8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579-36AD-43A0-A7E8-1C1D3BA5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8A2-B48B-489A-8BE1-285AC151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9D0-1E38-463D-A211-CBB867B6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2F3-2EFD-45F5-9F38-16849C59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556-A9DE-425D-A05A-B3DE5E15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907-5347-44DD-8B27-7181462E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806-2973-4891-A65A-53EA5DF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43E90-C4AC-473F-97F3-969902C367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