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90971"/>
        <c:axId val="93742951"/>
      </c:barChart>
      <c:catAx>
        <c:axId val="58790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2951"/>
        <c:crosses val="autoZero"/>
        <c:auto val="1"/>
        <c:lblAlgn val="ctr"/>
        <c:lblOffset val="100"/>
        <c:noMultiLvlLbl val="0"/>
      </c:catAx>
      <c:valAx>
        <c:axId val="93742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90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9E0-5ED8-465C-A4E2-3F0E619E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879-770D-45CC-9797-8BC28760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843-6306-460B-9976-43C2DD6D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916-61C2-40B8-AE3F-B0E4BEFA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D14-A8AE-44AF-AE95-60EB4EBD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A55-D0C8-429A-88E3-13CEEC9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2B2-96D2-4653-8329-652D53B5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8B9-5FE2-419A-A60A-204BDDE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990-2CE7-4032-80C5-9D180A8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818-3EC0-4D62-865A-EA6B285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810-9A6A-4604-8F68-3B7F6904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698-781E-4BA5-8285-BE22FE4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46809-7B91-4531-A6C7-5EE50970D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