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61156"/>
        <c:axId val="60102147"/>
      </c:barChart>
      <c:catAx>
        <c:axId val="87061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02147"/>
        <c:crosses val="autoZero"/>
        <c:auto val="1"/>
        <c:lblAlgn val="ctr"/>
        <c:lblOffset val="100"/>
        <c:noMultiLvlLbl val="0"/>
      </c:catAx>
      <c:valAx>
        <c:axId val="60102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61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575-06B0-410B-87B4-DAF33693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FD4-EA58-4052-83A9-C482E8C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D63-6CBB-4A63-A1EC-78DBACFD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8D3-C01D-439E-BF50-92A81AF6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CC0-FBC0-4560-96C3-0B442CA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CE9-2C9E-4CE2-A6AC-4882C059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2F6-39C0-4182-92DA-3EDC147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693-1521-4E31-A9B2-098A3997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61B-6E3F-439C-9B94-80AD722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C75-05A2-4A41-A63B-6014EA3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2B9-055F-4BDD-807B-5B982DC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C90-EFD2-4B1E-A354-B3F8702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80143-9306-45B1-A8E5-0725CD86A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